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7640" cy="6172560"/>
            <a:chOff x="0" y="0"/>
            <a:chExt cx="8477640" cy="6172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1160" cy="6172560"/>
            </a:xfrm>
            <a:custGeom>
              <a:avLst/>
              <a:gdLst/>
              <a:ahLst/>
              <a:rect l="0" t="0" r="r" b="b"/>
              <a:pathLst>
                <a:path w="17031" h="17146">
                  <a:moveTo>
                    <a:pt x="17031" y="15075"/>
                  </a:moveTo>
                  <a:lnTo>
                    <a:pt x="2014" y="0"/>
                  </a:lnTo>
                  <a:lnTo>
                    <a:pt x="0" y="0"/>
                  </a:lnTo>
                  <a:lnTo>
                    <a:pt x="0" y="2119"/>
                  </a:lnTo>
                  <a:lnTo>
                    <a:pt x="14968" y="17146"/>
                  </a:lnTo>
                  <a:lnTo>
                    <a:pt x="17031" y="15075"/>
                  </a:lnTo>
                  <a:close/>
                </a:path>
              </a:pathLst>
            </a:custGeom>
            <a:solidFill>
              <a:srgbClr val="264c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6680" cy="5115240"/>
            </a:xfrm>
            <a:custGeom>
              <a:avLst/>
              <a:gdLst/>
              <a:ahLst/>
              <a:rect l="0" t="0" r="r" b="b"/>
              <a:pathLst>
                <a:path w="14963" h="14209">
                  <a:moveTo>
                    <a:pt x="1630" y="0"/>
                  </a:moveTo>
                  <a:lnTo>
                    <a:pt x="14963" y="13390"/>
                  </a:lnTo>
                  <a:lnTo>
                    <a:pt x="14147" y="14209"/>
                  </a:lnTo>
                  <a:lnTo>
                    <a:pt x="0" y="0"/>
                  </a:lnTo>
                  <a:lnTo>
                    <a:pt x="1630" y="0"/>
                  </a:lnTo>
                  <a:close/>
                </a:path>
              </a:pathLst>
            </a:custGeom>
            <a:solidFill>
              <a:srgbClr val="264c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7440" cy="4056480"/>
            </a:xfrm>
            <a:custGeom>
              <a:avLst/>
              <a:gdLst/>
              <a:ahLst/>
              <a:rect l="0" t="0" r="r" b="b"/>
              <a:pathLst>
                <a:path w="12604" h="11268">
                  <a:moveTo>
                    <a:pt x="2779" y="0"/>
                  </a:moveTo>
                  <a:lnTo>
                    <a:pt x="12604" y="9872"/>
                  </a:lnTo>
                  <a:lnTo>
                    <a:pt x="11215" y="11268"/>
                  </a:lnTo>
                  <a:lnTo>
                    <a:pt x="0" y="0"/>
                  </a:lnTo>
                  <a:lnTo>
                    <a:pt x="2779" y="0"/>
                  </a:lnTo>
                  <a:close/>
                </a:path>
              </a:pathLst>
            </a:custGeom>
            <a:solidFill>
              <a:srgbClr val="264c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7720" cy="3366000"/>
            </a:xfrm>
            <a:custGeom>
              <a:avLst/>
              <a:gdLst/>
              <a:ahLst/>
              <a:rect l="0" t="0" r="r" b="b"/>
              <a:pathLst>
                <a:path w="10077" h="9350">
                  <a:moveTo>
                    <a:pt x="0" y="0"/>
                  </a:moveTo>
                  <a:lnTo>
                    <a:pt x="9309" y="9350"/>
                  </a:lnTo>
                  <a:lnTo>
                    <a:pt x="10077" y="8579"/>
                  </a:lnTo>
                  <a:lnTo>
                    <a:pt x="15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4c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 txBox="1"/>
          <p:nvPr/>
        </p:nvSpPr>
        <p:spPr>
          <a:xfrm>
            <a:off x="8213760" y="63468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746280" y="6270480"/>
            <a:ext cx="588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4479840" y="6346800"/>
            <a:ext cx="988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533520" y="213372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62120" y="411480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609480"/>
            <a:ext cx="830592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895480" y="5105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533520"/>
            <a:ext cx="8077320" cy="17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6002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23920" y="152280"/>
            <a:ext cx="7095960" cy="6400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600200" y="5181480"/>
            <a:ext cx="6324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76440" y="676440"/>
            <a:ext cx="8020080" cy="5657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685800" y="76320"/>
            <a:ext cx="8001000" cy="579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62120" y="1371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0492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371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85800" y="15228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81200" y="1676520"/>
            <a:ext cx="4470480" cy="31240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1790640" y="1905120"/>
            <a:ext cx="5753160" cy="838080"/>
            <a:chOff x="1790640" y="1905120"/>
            <a:chExt cx="5753160" cy="838080"/>
          </a:xfrm>
        </p:grpSpPr>
        <p:sp>
          <p:nvSpPr>
            <p:cNvPr id="86" name=""/>
            <p:cNvSpPr/>
            <p:nvPr/>
          </p:nvSpPr>
          <p:spPr>
            <a:xfrm>
              <a:off x="1790640" y="1905120"/>
              <a:ext cx="5753160" cy="83808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803240" y="1930320"/>
              <a:ext cx="1841400" cy="736560"/>
            </a:xfrm>
            <a:prstGeom prst="rect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08360" y="1930320"/>
              <a:ext cx="1841400" cy="736560"/>
            </a:xfrm>
            <a:prstGeom prst="rect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13480" y="1930320"/>
              <a:ext cx="1841400" cy="736560"/>
            </a:xfrm>
            <a:prstGeom prst="rect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1965240" y="2027160"/>
              <a:ext cx="138744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3832200" y="2027160"/>
              <a:ext cx="11923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5661000" y="2027160"/>
              <a:ext cx="13860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 flipH="1">
            <a:off x="1295280" y="2743200"/>
            <a:ext cx="533520" cy="1219320"/>
          </a:xfrm>
          <a:prstGeom prst="line">
            <a:avLst/>
          </a:prstGeom>
          <a:ln w="12600">
            <a:solidFill>
              <a:srgbClr val="f95ab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2743200"/>
            <a:ext cx="4495680" cy="1219320"/>
          </a:xfrm>
          <a:prstGeom prst="line">
            <a:avLst/>
          </a:prstGeom>
          <a:ln w="12600">
            <a:solidFill>
              <a:srgbClr val="f95ab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147080" y="4923000"/>
            <a:ext cx="907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15840" y="655560"/>
            <a:ext cx="7047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24080" y="4998960"/>
            <a:ext cx="1428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279440" y="5318280"/>
            <a:ext cx="6372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57480" y="3962520"/>
            <a:ext cx="7048440" cy="83808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70080" y="3987720"/>
            <a:ext cx="1841400" cy="736560"/>
          </a:xfrm>
          <a:prstGeom prst="rect">
            <a:avLst/>
          </a:prstGeom>
          <a:solidFill>
            <a:srgbClr val="3365fb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87800" y="3987720"/>
            <a:ext cx="1841400" cy="736560"/>
          </a:xfrm>
          <a:prstGeom prst="rect">
            <a:avLst/>
          </a:prstGeom>
          <a:solidFill>
            <a:srgbClr val="3365fb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79960" y="3987720"/>
            <a:ext cx="1841400" cy="736560"/>
          </a:xfrm>
          <a:prstGeom prst="rect">
            <a:avLst/>
          </a:prstGeom>
          <a:solidFill>
            <a:srgbClr val="3365fb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85080" y="3975120"/>
            <a:ext cx="1219320" cy="736560"/>
          </a:xfrm>
          <a:prstGeom prst="rect">
            <a:avLst/>
          </a:prstGeom>
          <a:solidFill>
            <a:srgbClr val="3365fb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432080" y="4114800"/>
            <a:ext cx="1539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489480" y="4114800"/>
            <a:ext cx="1235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264280" y="4084560"/>
            <a:ext cx="1411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197840" y="4084560"/>
            <a:ext cx="941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85800" y="1504800"/>
            <a:ext cx="777240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315200" y="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29528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371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 flipH="1">
            <a:off x="1600200" y="762120"/>
            <a:ext cx="2741760" cy="923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124080" y="762120"/>
            <a:ext cx="126684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762120"/>
            <a:ext cx="1067040" cy="9903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95680" y="762120"/>
            <a:ext cx="2921040" cy="9525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3124080"/>
            <a:ext cx="3695760" cy="12956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400480" y="3200400"/>
            <a:ext cx="2095200" cy="205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64080" y="225360"/>
            <a:ext cx="1685880" cy="5428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48400" y="985680"/>
            <a:ext cx="1305000" cy="542880"/>
          </a:xfrm>
          <a:prstGeom prst="ellipse">
            <a:avLst/>
          </a:prstGeom>
          <a:solidFill>
            <a:srgbClr val="f39fd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28680" y="1595520"/>
            <a:ext cx="1305000" cy="542880"/>
          </a:xfrm>
          <a:prstGeom prst="ellipse">
            <a:avLst/>
          </a:prstGeom>
          <a:solidFill>
            <a:srgbClr val="f39fd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5200" y="1595520"/>
            <a:ext cx="1305000" cy="542880"/>
          </a:xfrm>
          <a:prstGeom prst="ellipse">
            <a:avLst/>
          </a:prstGeom>
          <a:solidFill>
            <a:srgbClr val="f39fd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34200" y="1595520"/>
            <a:ext cx="1305000" cy="542880"/>
          </a:xfrm>
          <a:prstGeom prst="ellipse">
            <a:avLst/>
          </a:prstGeom>
          <a:solidFill>
            <a:srgbClr val="f39fd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14480" y="985680"/>
            <a:ext cx="1305000" cy="542880"/>
          </a:xfrm>
          <a:prstGeom prst="ellipse">
            <a:avLst/>
          </a:prstGeom>
          <a:solidFill>
            <a:srgbClr val="f39fd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71880" y="985680"/>
            <a:ext cx="1305000" cy="542880"/>
          </a:xfrm>
          <a:prstGeom prst="ellipse">
            <a:avLst/>
          </a:prstGeom>
          <a:solidFill>
            <a:srgbClr val="f39fd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8800" y="1566720"/>
            <a:ext cx="1305000" cy="542880"/>
          </a:xfrm>
          <a:prstGeom prst="ellipse">
            <a:avLst/>
          </a:prstGeom>
          <a:solidFill>
            <a:srgbClr val="f39fd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2000" y="985680"/>
            <a:ext cx="1305000" cy="542880"/>
          </a:xfrm>
          <a:prstGeom prst="ellipse">
            <a:avLst/>
          </a:prstGeom>
          <a:solidFill>
            <a:srgbClr val="f39fd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481720" y="1595520"/>
            <a:ext cx="1305000" cy="542880"/>
          </a:xfrm>
          <a:prstGeom prst="rect">
            <a:avLst/>
          </a:prstGeom>
          <a:solidFill>
            <a:srgbClr val="f39fd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038480" y="304920"/>
            <a:ext cx="844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1066680"/>
            <a:ext cx="668160" cy="304920"/>
          </a:xfrm>
          <a:prstGeom prst="rect">
            <a:avLst/>
          </a:prstGeom>
          <a:solidFill>
            <a:srgbClr val="f39fd1"/>
          </a:solidFill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60320" y="1676520"/>
            <a:ext cx="619200" cy="304920"/>
          </a:xfrm>
          <a:prstGeom prst="rect">
            <a:avLst/>
          </a:prstGeom>
          <a:solidFill>
            <a:srgbClr val="f39fd1"/>
          </a:solidFill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438280" y="1676520"/>
            <a:ext cx="658800" cy="304920"/>
          </a:xfrm>
          <a:prstGeom prst="rect">
            <a:avLst/>
          </a:prstGeom>
          <a:solidFill>
            <a:srgbClr val="f39fd1"/>
          </a:solidFill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00400" y="1066680"/>
            <a:ext cx="490680" cy="304920"/>
          </a:xfrm>
          <a:prstGeom prst="rect">
            <a:avLst/>
          </a:prstGeom>
          <a:solidFill>
            <a:srgbClr val="f39fd1"/>
          </a:solidFill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962520" y="1676520"/>
            <a:ext cx="1003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181480" y="1143000"/>
            <a:ext cx="717480" cy="304920"/>
          </a:xfrm>
          <a:prstGeom prst="rect">
            <a:avLst/>
          </a:prstGeom>
          <a:solidFill>
            <a:srgbClr val="f39fd1"/>
          </a:solidFill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934320" y="1066680"/>
            <a:ext cx="539640" cy="304920"/>
          </a:xfrm>
          <a:prstGeom prst="rect">
            <a:avLst/>
          </a:prstGeom>
          <a:solidFill>
            <a:srgbClr val="f39fd1"/>
          </a:solidFill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7315200" y="1752480"/>
            <a:ext cx="1082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59200" y="2573280"/>
            <a:ext cx="1305000" cy="5428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16000" y="2573280"/>
            <a:ext cx="1305000" cy="5428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73800" y="2573280"/>
            <a:ext cx="1305000" cy="5428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362240" y="2666880"/>
            <a:ext cx="838080" cy="33660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191120" y="2666880"/>
            <a:ext cx="658800" cy="33660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548400" y="2666880"/>
            <a:ext cx="849240" cy="33660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85680" y="3957480"/>
            <a:ext cx="1305000" cy="542880"/>
          </a:xfrm>
          <a:prstGeom prst="ellipse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15080" y="4414680"/>
            <a:ext cx="1305000" cy="542880"/>
          </a:xfrm>
          <a:prstGeom prst="ellipse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85880" y="4186080"/>
            <a:ext cx="1305000" cy="542880"/>
          </a:xfrm>
          <a:prstGeom prst="ellipse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15080" y="3424320"/>
            <a:ext cx="1305000" cy="542880"/>
          </a:xfrm>
          <a:prstGeom prst="ellipse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43280" y="4186080"/>
            <a:ext cx="1305000" cy="542880"/>
          </a:xfrm>
          <a:prstGeom prst="ellipse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19800" y="3957480"/>
            <a:ext cx="1305000" cy="542880"/>
          </a:xfrm>
          <a:prstGeom prst="ellipse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3080" y="5176800"/>
            <a:ext cx="1305000" cy="542880"/>
          </a:xfrm>
          <a:prstGeom prst="ellipse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91000" y="5176800"/>
            <a:ext cx="1305000" cy="542880"/>
          </a:xfrm>
          <a:prstGeom prst="ellipse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19800" y="5176800"/>
            <a:ext cx="1305000" cy="542880"/>
          </a:xfrm>
          <a:prstGeom prst="ellipse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76200" y="3348000"/>
            <a:ext cx="1305000" cy="542880"/>
            <a:chOff x="376200" y="3348000"/>
            <a:chExt cx="1305000" cy="542880"/>
          </a:xfrm>
        </p:grpSpPr>
        <p:sp>
          <p:nvSpPr>
            <p:cNvPr id="158" name=""/>
            <p:cNvSpPr/>
            <p:nvPr/>
          </p:nvSpPr>
          <p:spPr>
            <a:xfrm>
              <a:off x="376200" y="3348000"/>
              <a:ext cx="1305000" cy="542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380880" y="3429000"/>
              <a:ext cx="12160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99880" y="4643280"/>
            <a:ext cx="1305000" cy="542880"/>
            <a:chOff x="299880" y="4643280"/>
            <a:chExt cx="1305000" cy="542880"/>
          </a:xfrm>
        </p:grpSpPr>
        <p:sp>
          <p:nvSpPr>
            <p:cNvPr id="161" name=""/>
            <p:cNvSpPr/>
            <p:nvPr/>
          </p:nvSpPr>
          <p:spPr>
            <a:xfrm>
              <a:off x="299880" y="4643280"/>
              <a:ext cx="1305000" cy="542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311040" y="4753080"/>
              <a:ext cx="1276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 txBox="1"/>
          <p:nvPr/>
        </p:nvSpPr>
        <p:spPr>
          <a:xfrm>
            <a:off x="1112760" y="4067280"/>
            <a:ext cx="1042920" cy="304920"/>
          </a:xfrm>
          <a:prstGeom prst="rect">
            <a:avLst/>
          </a:prstGeom>
          <a:solidFill>
            <a:srgbClr val="50009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366920" y="5253120"/>
            <a:ext cx="1457280" cy="542880"/>
            <a:chOff x="1366920" y="5253120"/>
            <a:chExt cx="1457280" cy="542880"/>
          </a:xfrm>
        </p:grpSpPr>
        <p:sp>
          <p:nvSpPr>
            <p:cNvPr id="165" name=""/>
            <p:cNvSpPr/>
            <p:nvPr/>
          </p:nvSpPr>
          <p:spPr>
            <a:xfrm>
              <a:off x="1519200" y="5253120"/>
              <a:ext cx="1305000" cy="542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1366920" y="5362560"/>
              <a:ext cx="13590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 txBox="1"/>
          <p:nvPr/>
        </p:nvSpPr>
        <p:spPr>
          <a:xfrm>
            <a:off x="2638440" y="4295880"/>
            <a:ext cx="104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8120" y="5334120"/>
            <a:ext cx="1225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724280" y="4343400"/>
            <a:ext cx="1176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0" y="5257800"/>
            <a:ext cx="1255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696080" y="3505320"/>
            <a:ext cx="1236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324480" y="4038480"/>
            <a:ext cx="1325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324480" y="5257800"/>
            <a:ext cx="1324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7772400" y="4495680"/>
            <a:ext cx="1087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200400" y="3200400"/>
            <a:ext cx="1292400" cy="1004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097000" y="3124080"/>
            <a:ext cx="2473560" cy="916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95680" y="3124080"/>
            <a:ext cx="320040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3124080"/>
            <a:ext cx="190512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505320" y="3200400"/>
            <a:ext cx="988920" cy="1994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11520" y="3111480"/>
            <a:ext cx="173160" cy="2147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676520" y="3124080"/>
            <a:ext cx="2894040" cy="457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3124080"/>
            <a:ext cx="2400480" cy="2057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3200400"/>
            <a:ext cx="723960" cy="990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523880" y="3124080"/>
            <a:ext cx="3046680" cy="1704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95680" y="762120"/>
            <a:ext cx="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733920" y="762120"/>
            <a:ext cx="609480" cy="3045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95680" y="762120"/>
            <a:ext cx="644760" cy="3045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762120"/>
            <a:ext cx="2233800" cy="342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173320" y="762120"/>
            <a:ext cx="2243160" cy="3063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2416320" y="2133720"/>
            <a:ext cx="2077920" cy="711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495680" y="2133720"/>
            <a:ext cx="2071800" cy="522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95680" y="21337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14400" y="15228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09480" y="1371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57200" y="458640"/>
            <a:ext cx="632448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086600" y="276120"/>
            <a:ext cx="16002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04920" y="619200"/>
            <a:ext cx="7162920" cy="5553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0" y="4343400"/>
            <a:ext cx="1371600" cy="13716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33720" y="2743200"/>
            <a:ext cx="1371600" cy="13716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304920"/>
            <a:ext cx="1371600" cy="13716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91120" y="1447920"/>
            <a:ext cx="1371600" cy="13716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979880" y="2514600"/>
            <a:ext cx="4773600" cy="42260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2270160" y="3252960"/>
            <a:ext cx="112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251240" y="1881360"/>
            <a:ext cx="1060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080040" y="738360"/>
            <a:ext cx="1492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7543800" y="1143000"/>
            <a:ext cx="1371600" cy="1371600"/>
            <a:chOff x="7543800" y="1143000"/>
            <a:chExt cx="1371600" cy="1371600"/>
          </a:xfrm>
        </p:grpSpPr>
        <p:sp>
          <p:nvSpPr>
            <p:cNvPr id="209" name=""/>
            <p:cNvSpPr/>
            <p:nvPr/>
          </p:nvSpPr>
          <p:spPr>
            <a:xfrm>
              <a:off x="7543800" y="1143000"/>
              <a:ext cx="1371600" cy="13716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7680240" y="1652760"/>
              <a:ext cx="9208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 txBox="1"/>
          <p:nvPr/>
        </p:nvSpPr>
        <p:spPr>
          <a:xfrm>
            <a:off x="76320" y="4800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600200" y="5334120"/>
            <a:ext cx="37339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71520" y="1438200"/>
            <a:ext cx="8325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66720" y="0"/>
            <a:ext cx="7008840" cy="63133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304920" y="5867280"/>
            <a:ext cx="84582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15228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38080" y="12193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152388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480" y="1447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5800" y="1219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76212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838080" y="106668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48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6002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04920" y="763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143000" y="304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533520" y="38088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25560"/>
            <a:ext cx="7772400" cy="16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762120" y="4572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09480" y="1376280"/>
            <a:ext cx="777240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im Nguyen</dc:creator>
  <dc:description>Color</dc:description>
  <dc:language>en-US</dc:language>
  <cp:lastModifiedBy>xxx</cp:lastModifiedBy>
  <cp:revision>0</cp:revision>
  <dc:subject/>
  <dc:title>cultural Adaptability</dc:title>
</cp:coreProperties>
</file>